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 type="ftr" idx="26"/>
          </p:nvPr>
        </p:nvSpPr>
        <p:spPr>
          <a:xfrm>
            <a:off x="-3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 type="sldNum" idx="27"/>
          </p:nvPr>
        </p:nvSpPr>
        <p:spPr>
          <a:xfrm>
            <a:off x="388440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058C1-13DA-44CF-A5BF-42B6F984DA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9CF68-5919-486B-9983-DB9339C23D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693D9-2C14-4652-843B-B6CFE02072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6E1CA-2EBD-48CB-A4A0-DDEB9B5567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0F40A-9FBE-416E-B974-38E28222AC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B60C0-B782-46DC-920B-F0357457FF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B1A9-C9B8-43B9-9984-117CC7753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589D-F282-443B-A9F3-A86BE88A9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36E0-D0A9-4F92-BAED-4BA000C9D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780F-9F3E-4476-9F93-ADA83DA63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67B3D-2DB0-43BA-A348-C4D2B2C17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BDB8D-BA22-4DDE-8210-E8D5E4B1C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092D4-177F-494F-8A0B-1D46BAE96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5A0FD-629C-4102-B834-71ADCB386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B91DD-3B14-45FF-B3D4-493BFC395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FE928-8BFA-42E2-B76B-0B299C6E8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54AC1-8B84-466A-A67B-37A3FF422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F619-3B05-4B9F-B0A2-2998DFEF7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03A50-9D60-4BF7-BED3-D40EA7264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3CE48-E7B5-4DFB-B320-B98B56B56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905E0-5FE1-41B2-A9FE-EFE906C06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019E0-080D-4352-ADC9-4703597D2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D5151-0FAC-47E2-865D-E7353FC2A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10A772-2E22-46EB-B1C6-C72713ABE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536F90-27D4-40DB-BE18-EB0785AD4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8F5339-D427-420D-9F23-5A68C30CE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4EBB92-A37A-4370-877B-281E44898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5D95F9-80FF-4A6F-9985-9E48D34C5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16E0-B880-4A29-877B-1C1674477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B440BD-4A63-4273-90C0-67A4AA9A1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98D8E5-9FCA-4883-B967-4725E3B0E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FFB965-7AE8-444F-A92E-A08F948A1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5CC490-C0B9-4424-9481-B61E0F7D7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06414D-AE28-4E09-9CF5-1F406DBE5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546071-6EF2-45B1-A229-E4B3EEB24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D81684-6591-41DF-B236-5F201FDEB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416BD6-2C6B-424C-A88F-164967E6F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888011-6051-4FC0-91B9-034124796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429AB8-44B8-43F7-97A0-8C921A318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DC10-B5AF-41A3-9675-662BA54E2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3E1CAF-F86A-40BD-B64D-D145E38A0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46FBCD-A053-43AC-AF94-6448FB444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45EDE7-A73A-49E9-B64C-697179166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DF7C32-F999-4571-A427-101E733FA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D3E28D-5172-4F77-8AC2-707DF8141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6DAA4A-E306-464B-8319-A6D9FA954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72F3A7-66CC-40AB-A405-E3549424D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B95A89-CE4E-42F7-AFA6-0715F291B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46120C-D74A-4715-A6E2-1800D5DF8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C721AC-469C-4A92-987D-AB55209EB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DA55-B4C4-45F5-BFF5-B2B364882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966376-351B-482D-B036-F2FAD38A2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8CDE16-F29C-49D0-BB40-A16C73DAF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0BDD32-BE42-45B1-BC22-1ED51B141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5A0D06-1865-42D1-9040-917940746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1A38DD-A9A2-43CA-BAC2-17B3DE228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0119A6-90AF-467F-AA04-165366E42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FADB89-C681-4B7A-9050-66EAC1F9B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B08232-4B01-4034-B196-E103F118B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BEE6FF-2437-4E3D-A83B-7D953CAD2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1F1FFC-B549-4AB7-92FD-FCA245B6B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09DB-74B3-4147-86CF-6DF819C92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3AAFD2-AC7E-463C-B7A6-75AFBDB89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9E06A6-82A5-41DE-B151-6FF4E6D06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4A6D06-D6FB-46FA-8B4E-31361A0CA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7CA96C-7BB3-4AC5-AE89-1076560C8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F664C5-9A9B-4E3B-9329-AC68C7D7C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9C6ABE-B21B-40D9-A55B-FB47D8EDE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2E0578-D14C-4FC4-A93D-51370B3E0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8FBE99-8F65-4ECE-9629-E50F324E4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98FFA2-DC68-4497-9454-6560CB54A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0D4D51-9A16-4739-B492-4C55163E9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00D7-979F-4F16-8A64-E9331203B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73E59C-E512-4A03-A84E-05613BB16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310500-D63F-4CA4-8606-197DE8D67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790425-5856-4DCD-8649-0D962E199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A80C98-C1D7-470B-9819-B1A4F770A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EA2BBE-59E9-4219-9FCD-80D790C34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EFD4F9-2319-4DFA-9222-0C02334BF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53A31F-CAF8-4A2D-BD49-38F043338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3E0094-04D5-4FA1-A32A-CC7A5C4F8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EF8812-607B-49D5-B7B5-F8E8EF76C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9936AE-706F-43EC-A81A-844D145EC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9575-C926-4F0C-89F5-FC55B2BF2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5B2ADE-9BE1-40CA-BC37-F799C3C30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139201-4C92-447B-A2CF-77430B626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6EA675-6E34-46AD-968D-EB840C58D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2E89C2-5211-4CC3-B2BC-E49BE4232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6C561D-A107-40A4-8D09-919C301E0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D178C0-2B27-41EC-8B7C-C8BAB4856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84E4AF-4BB9-4B77-9800-A5812A9D2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5BF2D5-16CC-4D0A-A10E-9321CFA29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95DFA6-3BB7-4E95-9D45-BB9823888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D28176-477A-4745-B1FB-65ACB0374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690F-0478-4C6B-96A4-D3A71B3F8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620F44-24A1-4DB4-9761-39237CC41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040FEB-B2B8-4E21-94D5-E717E34D9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937BCB-7A96-46A7-8D14-8E445AF45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403B3D-DB61-48A7-B127-BC096C9F7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1F3EBB-9DB2-4214-8A9E-AD7ACB276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456DBB-7C64-4F51-93E5-2F4EE7DB6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14E8E4-F0B8-439D-9377-1C5EE7CD4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A219A-3525-468A-85D4-7FB8EED82B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44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706CF-5379-4FB3-99E8-9F8F54A71A6A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92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97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8DCCE-FD47-4250-941F-6FB0F80442C2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44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DF0DC-CB97-4E9D-9E39-C625443B0397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44F29-5D62-4CBD-AC2C-5E6AC5848D17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543A0-868C-4856-9A9C-29CDFF8E9210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A8B4D-6807-4FC6-8D3C-897BE200DA6B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3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314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dt" idx="2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ftr" idx="2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 type="sldNum" idx="2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88405-AAA7-4D0D-9192-8BE48E93739A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447560" y="1218960"/>
            <a:ext cx="7407000" cy="14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           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Roots List #5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1295280" y="3505320"/>
            <a:ext cx="7407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                     </a:t>
            </a: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Junior Vocabulary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racy, Crat, Cratic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finition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Rule; government; power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571640" y="1599840"/>
            <a:ext cx="47242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ample Word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Autocracy/Autocrat/Autocratic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Democracy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Aristocrat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Plutocrat 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(pluto=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ealth; wealthy)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Theocrat/ theocratic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71" name="Picture 6" descr="autocrat.jpg"/>
          <p:cNvPicPr/>
          <p:nvPr/>
        </p:nvPicPr>
        <p:blipFill>
          <a:blip r:embed="rId2"/>
          <a:stretch/>
        </p:blipFill>
        <p:spPr>
          <a:xfrm>
            <a:off x="1219320" y="2895480"/>
            <a:ext cx="1828800" cy="167652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7" descr="democracy.jpg"/>
          <p:cNvPicPr/>
          <p:nvPr/>
        </p:nvPicPr>
        <p:blipFill>
          <a:blip r:embed="rId3"/>
          <a:stretch/>
        </p:blipFill>
        <p:spPr>
          <a:xfrm>
            <a:off x="7086600" y="152280"/>
            <a:ext cx="1905120" cy="152424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8" descr="democracyy.jpg"/>
          <p:cNvPicPr/>
          <p:nvPr/>
        </p:nvPicPr>
        <p:blipFill>
          <a:blip r:embed="rId4"/>
          <a:stretch/>
        </p:blipFill>
        <p:spPr>
          <a:xfrm>
            <a:off x="3276720" y="5029200"/>
            <a:ext cx="2057400" cy="1447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red, Credi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finition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Belief; trust; faith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87152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ample Word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redibl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reditor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redo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redenc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Incredibl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77" name="Picture 6" descr="credit.jpg"/>
          <p:cNvPicPr/>
          <p:nvPr/>
        </p:nvPicPr>
        <p:blipFill>
          <a:blip r:embed="rId2"/>
          <a:stretch/>
        </p:blipFill>
        <p:spPr>
          <a:xfrm>
            <a:off x="4191120" y="5181480"/>
            <a:ext cx="1981080" cy="137160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7" descr="creditor.jpg"/>
          <p:cNvPicPr/>
          <p:nvPr/>
        </p:nvPicPr>
        <p:blipFill>
          <a:blip r:embed="rId3"/>
          <a:stretch/>
        </p:blipFill>
        <p:spPr>
          <a:xfrm>
            <a:off x="6858000" y="152280"/>
            <a:ext cx="1800360" cy="137160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8" descr="incredible.jpg"/>
          <p:cNvPicPr/>
          <p:nvPr/>
        </p:nvPicPr>
        <p:blipFill>
          <a:blip r:embed="rId4"/>
          <a:stretch/>
        </p:blipFill>
        <p:spPr>
          <a:xfrm>
            <a:off x="1752480" y="3276720"/>
            <a:ext cx="2057400" cy="17524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9" descr="incredibles.jpg"/>
          <p:cNvPicPr/>
          <p:nvPr/>
        </p:nvPicPr>
        <p:blipFill>
          <a:blip r:embed="rId5"/>
          <a:stretch/>
        </p:blipFill>
        <p:spPr>
          <a:xfrm>
            <a:off x="6858000" y="4572000"/>
            <a:ext cx="2286000" cy="1752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De-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finition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To remove or undo; away from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87152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ample Word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Decapitate (</a:t>
            </a:r>
            <a:r>
              <a:rPr b="1" lang="en-US" sz="2200" spc="-1" strike="noStrike">
                <a:solidFill>
                  <a:srgbClr val="000000"/>
                </a:solidFill>
                <a:latin typeface="Gill Sans MT"/>
              </a:rPr>
              <a:t>capit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= the head or heads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Deduct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Dehydrat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Deport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Destroy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Descend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84" name="Picture 6" descr="deport.jpg"/>
          <p:cNvPicPr/>
          <p:nvPr/>
        </p:nvPicPr>
        <p:blipFill>
          <a:blip r:embed="rId2"/>
          <a:stretch/>
        </p:blipFill>
        <p:spPr>
          <a:xfrm>
            <a:off x="6781680" y="0"/>
            <a:ext cx="2171880" cy="198108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7" descr="deduct.jpg"/>
          <p:cNvPicPr/>
          <p:nvPr/>
        </p:nvPicPr>
        <p:blipFill>
          <a:blip r:embed="rId3"/>
          <a:stretch/>
        </p:blipFill>
        <p:spPr>
          <a:xfrm>
            <a:off x="3657600" y="5029200"/>
            <a:ext cx="1628640" cy="160020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8" descr="dehydrate.jpg"/>
          <p:cNvPicPr/>
          <p:nvPr/>
        </p:nvPicPr>
        <p:blipFill>
          <a:blip r:embed="rId4"/>
          <a:stretch/>
        </p:blipFill>
        <p:spPr>
          <a:xfrm>
            <a:off x="1143000" y="3048120"/>
            <a:ext cx="2286000" cy="2133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72314"/>
                </a:solidFill>
                <a:latin typeface="Gill Sans MT"/>
              </a:rPr>
              <a:t>Dec, Deca, Decem, Deci, Decim, Decu</a:t>
            </a:r>
            <a:endParaRPr b="0" lang="en-US" sz="3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914040" y="1600200"/>
            <a:ext cx="3814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Definition: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en; a tenth par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87152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ample Words: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ecad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ecathlo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ecago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ecagram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ecahedron (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hedron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= face or surface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ecember (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ber=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month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ecilite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ecimete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ecalogu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ecima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ecimat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90" name="Picture 6" descr="decathlon.jpg"/>
          <p:cNvPicPr/>
          <p:nvPr/>
        </p:nvPicPr>
        <p:blipFill>
          <a:blip r:embed="rId2"/>
          <a:stretch/>
        </p:blipFill>
        <p:spPr>
          <a:xfrm>
            <a:off x="7238880" y="5105520"/>
            <a:ext cx="1590840" cy="141912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7" descr="decalogue.jpg"/>
          <p:cNvPicPr/>
          <p:nvPr/>
        </p:nvPicPr>
        <p:blipFill>
          <a:blip r:embed="rId3"/>
          <a:stretch/>
        </p:blipFill>
        <p:spPr>
          <a:xfrm>
            <a:off x="3429000" y="4876920"/>
            <a:ext cx="1523880" cy="137160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8" descr="decagon.jpg"/>
          <p:cNvPicPr/>
          <p:nvPr/>
        </p:nvPicPr>
        <p:blipFill>
          <a:blip r:embed="rId4"/>
          <a:stretch/>
        </p:blipFill>
        <p:spPr>
          <a:xfrm>
            <a:off x="7391520" y="1600200"/>
            <a:ext cx="1409760" cy="129528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9" descr="decathlonn.jpg"/>
          <p:cNvPicPr/>
          <p:nvPr/>
        </p:nvPicPr>
        <p:blipFill>
          <a:blip r:embed="rId5"/>
          <a:stretch/>
        </p:blipFill>
        <p:spPr>
          <a:xfrm>
            <a:off x="1523880" y="5105520"/>
            <a:ext cx="1333800" cy="134280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10" descr="december.jpg"/>
          <p:cNvPicPr/>
          <p:nvPr/>
        </p:nvPicPr>
        <p:blipFill>
          <a:blip r:embed="rId6"/>
          <a:stretch/>
        </p:blipFill>
        <p:spPr>
          <a:xfrm>
            <a:off x="1447920" y="2514600"/>
            <a:ext cx="1600200" cy="243828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11" descr="decathlonnn.jpg"/>
          <p:cNvPicPr/>
          <p:nvPr/>
        </p:nvPicPr>
        <p:blipFill>
          <a:blip r:embed="rId7"/>
          <a:stretch/>
        </p:blipFill>
        <p:spPr>
          <a:xfrm>
            <a:off x="3505320" y="2514600"/>
            <a:ext cx="1371600" cy="1752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3T17:47:44Z</dcterms:created>
  <dc:creator>James Mitchell</dc:creator>
  <dc:description/>
  <dc:language>en-US</dc:language>
  <cp:lastModifiedBy>teacher</cp:lastModifiedBy>
  <dcterms:modified xsi:type="dcterms:W3CDTF">2009-02-02T18:11:56Z</dcterms:modified>
  <cp:revision>22</cp:revision>
  <dc:subject/>
  <dc:title>Roots List #1</dc:title>
</cp:coreProperties>
</file>